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3EAF-A048-4B48-A72B-6B1FF769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115-BD73-4C35-809F-10DA0210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15B-4707-4C7A-86EB-172CEA7A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02D-FCE4-453B-BC6B-559E0370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225-5BE6-4B7C-8125-E27DE497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71C-8C6B-4D42-8270-3292583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3D9-860A-46D9-8F50-793BF61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59B-7F22-4C4B-83A8-6B9F7B1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88A-63C2-4CAA-B704-BD773A7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9A0-8409-455D-8E86-7E7C08B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1C2-C682-4306-8FA3-194287B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04E-9FB6-4A71-818D-3682CA6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63A-35E0-47FD-8C29-D8BFBAD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03D-8D92-4276-8F61-4E2092E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E8B5-31FD-4FAE-A721-02F9AAEE7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Mi llamas Mirela. Yo tengo catorce años. Yo soy dulce y amigable. Yo vives Queens. Yo tengo dos herm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        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                                                                              Manpre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39:19Z</dcterms:created>
  <dc:creator>FriscoISD</dc:creator>
  <dc:description/>
  <dc:language>en-US</dc:language>
  <cp:lastModifiedBy>NYCDOE</cp:lastModifiedBy>
  <dcterms:modified xsi:type="dcterms:W3CDTF">2012-12-04T14:55:44Z</dcterms:modified>
  <cp:revision>104</cp:revision>
  <dc:subject/>
  <dc:title>Profile</dc:title>
</cp:coreProperties>
</file>